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8.png" ContentType="image/png"/>
  <Override PartName="/ppt/media/image29.jpeg" ContentType="image/jpeg"/>
  <Override PartName="/ppt/media/image30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5A2-7BF3-4229-B189-6FBEA507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28F-CCDA-4F84-9603-74ED6F74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C8E-0DC4-4A04-BD05-6A671D58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A32-125E-4A41-959B-851AFD9C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D285-08B3-4CCB-8655-7D6B346B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B356-34C6-4794-922D-1CECC759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9CA3-259B-486A-80A2-EF66F929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BB45-54F7-4D45-80F6-7D6170CE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2D4B-C458-4320-AC37-6EACD706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EBFA-422C-4745-94B8-94283918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461C-B387-4072-B3A4-C113B89F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2D4-C7C7-410E-A84A-D3D49AB1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75E6-9966-4D65-B456-035852E0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9BF9-B0AE-46BA-8643-D8522658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BB65-977B-4755-B3AC-9549BFF4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29A8-B566-406E-BA7D-BA591280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EBE2-E4E8-421E-AA17-5695C8C7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FCA8F-8BE2-4130-A9B1-87B465D6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36AB5-30B9-4CBC-AA67-90959369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44610-CF4B-451F-8028-CF093C83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4A6E5-C07D-4F4E-80F9-222EF371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EAD66-1A0E-4B3F-A36D-2B94732B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845-FB6C-4486-B7C0-D3256FAD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51ED1-C9CB-4E53-9376-7234DACD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1A7A7-86A5-4B61-9879-DCB7E176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9B03C-7A82-484D-8E12-979E4A11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4D72D-F195-459B-96AA-A517874D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A0E46-799E-45A5-94C9-93A0F5A1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4632F-0DA1-4B8A-8924-A6012B85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DFAF2-2913-49D7-9CDE-1EF4BCD3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85B52-1AE5-4E2A-BE8D-39C3C14E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8B902-8929-4935-A109-E5506660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05DFE-1949-49A4-94C9-1B838FA3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C414-A8A5-485F-9D67-6D170CB9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8FF48-CC1C-4C23-9B43-1A6DED72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C7C8E-9F62-4840-8B10-CC23AB13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7D36E-B174-4452-9635-7CAD8E92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88BB8-1408-49D9-AFF6-4AFEF9FF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7D8CC-D0DD-43DA-B728-E114024D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25697-0437-486D-98F8-5C4E5DD9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4F40B-FB0C-46B2-AC45-DB295DA9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A4D57-D00A-44E9-8432-BC92034E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73E23-A8F8-4BCA-856B-DBE3E257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3DF72-66A4-439B-B9C0-1F5CA287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69A-465D-4A5A-B796-241604B1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0D21E-17FF-4DBA-93EF-A73032B6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B2DB9-35ED-494B-9FB7-7C212073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77979-C2C7-4814-91A8-5A6FA74B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184EC-A03A-4A96-BCBD-D6BD1E8C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B422C-23C7-4FB7-A3E8-608870F0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35FCB-F9BD-4C84-80A7-8D011C3F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228F5-4FF0-4241-8308-0E042E4A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8554D-55EE-47FA-A523-9FBA51C6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D4868-CA4E-46AD-8D4B-F11508CD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689D0-918B-4D9E-8CF5-203D9BAD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164A-3CDD-43F6-BA46-699415F9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631A8-B98F-40AE-8EBC-A1D19C22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B92F6-3C7A-4D75-9C3F-9BF5C671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235A7-7B42-4E31-B125-F0ADB5E0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0C789-74BF-4A51-B430-262D0C36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ECB76-E9E4-4AE8-BE8C-01F52C37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FC353-07BC-438C-A99D-2ADFB02F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67570-7CDB-4B0E-9253-FB8E5331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95956-4C96-47F5-A878-969859AC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CE678-09D9-4341-88AF-C1D37656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41931-9127-489D-9AB7-6F9915F4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94D-6DB8-4DC8-8E03-7DFE733D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031ED-2311-45CC-82F6-F6509123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56EA7-C027-4B7A-9E14-A72E71BE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78B45-E50C-492B-832B-923C8062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46440-B086-4B26-93AD-52BC4117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F8D13-2205-44E2-ACBA-811110E3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0E5B6-B189-4B30-A9DF-3B855010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6D2E6-C60B-4BD2-96A9-960F4BCE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25FF8-F0FD-4306-9CE3-25EE555E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E35D6-E128-4637-8DE8-B97C7CB5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29D81-1796-4B7C-8839-366A22C5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D86-96DB-472C-967F-B02D61FF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C3EDD-348A-4F3D-BEC6-84A3FDCB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FD648-F57A-4EA5-8470-937F0D1D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5C400-0397-4314-A220-D62AC0E1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E7C4A-5C6A-4BAA-A35D-6ED5A045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8085A-0790-4DE3-A383-68E6DAA7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3DF90-EAFA-4B21-A146-699A3F7E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95E94-B308-4F5B-814A-360612AD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6450C-B7CE-42D4-84F7-79B934F9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08E27-5A4D-4C0D-8810-36928132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3BD4A-23E1-4B26-B8A7-BE43FBA4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9B93-F36B-4199-99FD-295A5AC2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4DD30-C623-49E8-AE50-D746196B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0841C-67BF-4761-8ABA-762467B1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3A21D-99A8-4B31-94A2-7353DECD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849ED-4034-46BB-83B8-FE8CA6DC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C08C6-2C9E-4120-9567-3AFBB0C8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CB5BC-0192-41C9-B177-6F8E11EA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630C5-E2B8-4916-BB19-DA2EA58C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D4DF-7FEF-4BFF-9252-B7BD59D3DBBA}" type="slidenum">
              <a:rPr b="0" lang="en-N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49E4-0047-40EA-9E0A-1515FD5FFCFA}" type="slidenum">
              <a:rPr b="0" lang="en-N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7728-E450-4A44-8BDA-33E625F7007E}" type="slidenum">
              <a:rPr b="0" lang="en-N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946F-5374-452C-9078-24337C32D3EC}" type="slidenum">
              <a:rPr b="0" lang="en-N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78D1-C7F3-46B5-9ED2-BF86F8AA4386}" type="slidenum">
              <a:rPr b="0" lang="en-N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D4F2-8C84-4A3A-AE40-9817D05BF5B7}" type="slidenum">
              <a:rPr b="0" lang="en-N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98DF-C16B-45D0-9C40-94776E273B90}" type="slidenum">
              <a:rPr b="0" lang="en-N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E525-923F-4D2B-B7C0-3FF093987A20}" type="slidenum">
              <a:rPr b="0" lang="en-N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464646"/>
                </a:solidFill>
                <a:latin typeface="Lucida Sans Unicode"/>
              </a:rPr>
              <a:t>Or           </a:t>
            </a:r>
            <a:endParaRPr b="0" lang="en-US" sz="4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464646"/>
                </a:solidFill>
                <a:latin typeface="Lucida Sans Unicode"/>
              </a:rPr>
              <a:t>By: Peter Love, Andrew Body, Chen Ding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5000760" y="3500280"/>
            <a:ext cx="1333440" cy="723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3"/>
          <a:stretch/>
        </p:blipFill>
        <p:spPr>
          <a:xfrm>
            <a:off x="2571840" y="3500280"/>
            <a:ext cx="15336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1857240" y="1076400"/>
            <a:ext cx="5214960" cy="5126040"/>
          </a:xfrm>
          <a:prstGeom prst="rect">
            <a:avLst/>
          </a:prstGeom>
          <a:ln w="0">
            <a:noFill/>
          </a:ln>
        </p:spPr>
      </p:pic>
      <p:pic>
        <p:nvPicPr>
          <p:cNvPr id="392" name="Title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Content Placeholder 4" descr="Front Page copy.jpg"/>
          <p:cNvPicPr/>
          <p:nvPr/>
        </p:nvPicPr>
        <p:blipFill>
          <a:blip r:embed="rId1"/>
          <a:stretch/>
        </p:blipFill>
        <p:spPr>
          <a:xfrm>
            <a:off x="857160" y="1481040"/>
            <a:ext cx="7715520" cy="4525920"/>
          </a:xfrm>
          <a:prstGeom prst="rect">
            <a:avLst/>
          </a:prstGeom>
          <a:ln w="0">
            <a:noFill/>
          </a:ln>
        </p:spPr>
      </p:pic>
      <p:pic>
        <p:nvPicPr>
          <p:cNvPr id="394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Content Placeholder 3" descr="Bus Timetable final.bmp"/>
          <p:cNvPicPr/>
          <p:nvPr/>
        </p:nvPicPr>
        <p:blipFill>
          <a:blip r:embed="rId1"/>
          <a:stretch/>
        </p:blipFill>
        <p:spPr>
          <a:xfrm>
            <a:off x="714240" y="1481040"/>
            <a:ext cx="7929720" cy="4525920"/>
          </a:xfrm>
          <a:prstGeom prst="rect">
            <a:avLst/>
          </a:prstGeom>
          <a:ln w="0">
            <a:noFill/>
          </a:ln>
        </p:spPr>
      </p:pic>
      <p:pic>
        <p:nvPicPr>
          <p:cNvPr id="396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Content Placeholder 3" descr="350 Dunedin Times Picture.JPG"/>
          <p:cNvPicPr/>
          <p:nvPr/>
        </p:nvPicPr>
        <p:blipFill>
          <a:blip r:embed="rId1"/>
          <a:stretch/>
        </p:blipFill>
        <p:spPr>
          <a:xfrm>
            <a:off x="785880" y="1481040"/>
            <a:ext cx="7429320" cy="4525920"/>
          </a:xfrm>
          <a:prstGeom prst="rect">
            <a:avLst/>
          </a:prstGeom>
          <a:ln w="0">
            <a:noFill/>
          </a:ln>
        </p:spPr>
      </p:pic>
      <p:pic>
        <p:nvPicPr>
          <p:cNvPr id="398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Content Placeholder 3" descr="Front Page copy.jpg"/>
          <p:cNvPicPr/>
          <p:nvPr/>
        </p:nvPicPr>
        <p:blipFill>
          <a:blip r:embed="rId1"/>
          <a:stretch/>
        </p:blipFill>
        <p:spPr>
          <a:xfrm>
            <a:off x="1143000" y="1127160"/>
            <a:ext cx="6394320" cy="4879800"/>
          </a:xfrm>
          <a:prstGeom prst="rect">
            <a:avLst/>
          </a:prstGeom>
          <a:ln w="0">
            <a:noFill/>
          </a:ln>
        </p:spPr>
      </p:pic>
      <p:pic>
        <p:nvPicPr>
          <p:cNvPr id="375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Content Placeholder 3" descr="First hand Interview.bmp"/>
          <p:cNvPicPr/>
          <p:nvPr/>
        </p:nvPicPr>
        <p:blipFill>
          <a:blip r:embed="rId1"/>
          <a:stretch/>
        </p:blipFill>
        <p:spPr>
          <a:xfrm>
            <a:off x="428760" y="1481040"/>
            <a:ext cx="8286480" cy="4525920"/>
          </a:xfrm>
          <a:prstGeom prst="rect">
            <a:avLst/>
          </a:prstGeom>
          <a:ln w="0">
            <a:noFill/>
          </a:ln>
        </p:spPr>
      </p:pic>
      <p:pic>
        <p:nvPicPr>
          <p:cNvPr id="377" name="Title 2" descr=""/>
          <p:cNvPicPr/>
          <p:nvPr/>
        </p:nvPicPr>
        <p:blipFill>
          <a:blip r:embed="rId2"/>
          <a:stretch/>
        </p:blipFill>
        <p:spPr>
          <a:xfrm>
            <a:off x="231840" y="268200"/>
            <a:ext cx="8551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Content Placeholder 3" descr="Scrum Screenshot.bmp"/>
          <p:cNvPicPr/>
          <p:nvPr/>
        </p:nvPicPr>
        <p:blipFill>
          <a:blip r:embed="rId1"/>
          <a:stretch/>
        </p:blipFill>
        <p:spPr>
          <a:xfrm>
            <a:off x="642960" y="1481040"/>
            <a:ext cx="7929720" cy="4525920"/>
          </a:xfrm>
          <a:prstGeom prst="rect">
            <a:avLst/>
          </a:prstGeom>
          <a:ln w="0">
            <a:noFill/>
          </a:ln>
        </p:spPr>
      </p:pic>
      <p:pic>
        <p:nvPicPr>
          <p:cNvPr id="379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Content Placeholder 3" descr="Front Page copy.jpg"/>
          <p:cNvPicPr/>
          <p:nvPr/>
        </p:nvPicPr>
        <p:blipFill>
          <a:blip r:embed="rId1"/>
          <a:stretch/>
        </p:blipFill>
        <p:spPr>
          <a:xfrm>
            <a:off x="1143000" y="1127160"/>
            <a:ext cx="6394320" cy="4879800"/>
          </a:xfrm>
          <a:prstGeom prst="rect">
            <a:avLst/>
          </a:prstGeom>
          <a:ln w="0">
            <a:noFill/>
          </a:ln>
        </p:spPr>
      </p:pic>
      <p:pic>
        <p:nvPicPr>
          <p:cNvPr id="381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Content Placeholder 3" descr="Caramelldansen.bmp"/>
          <p:cNvPicPr/>
          <p:nvPr/>
        </p:nvPicPr>
        <p:blipFill>
          <a:blip r:embed="rId1"/>
          <a:stretch/>
        </p:blipFill>
        <p:spPr>
          <a:xfrm>
            <a:off x="571680" y="1481040"/>
            <a:ext cx="8143560" cy="4525920"/>
          </a:xfrm>
          <a:prstGeom prst="rect">
            <a:avLst/>
          </a:prstGeom>
          <a:ln w="0">
            <a:noFill/>
          </a:ln>
        </p:spPr>
      </p:pic>
      <p:pic>
        <p:nvPicPr>
          <p:cNvPr id="383" name="Title 2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  <p:sp>
        <p:nvSpPr>
          <p:cNvPr id="384" name="Left Arrow 15"/>
          <p:cNvSpPr/>
          <p:nvPr/>
        </p:nvSpPr>
        <p:spPr>
          <a:xfrm>
            <a:off x="3500280" y="4786200"/>
            <a:ext cx="571680" cy="4287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Content Placeholder 3" descr="Market Details.bmp"/>
          <p:cNvPicPr/>
          <p:nvPr/>
        </p:nvPicPr>
        <p:blipFill>
          <a:blip r:embed="rId1"/>
          <a:stretch/>
        </p:blipFill>
        <p:spPr>
          <a:xfrm>
            <a:off x="928800" y="1481040"/>
            <a:ext cx="7358040" cy="4525920"/>
          </a:xfrm>
          <a:prstGeom prst="rect">
            <a:avLst/>
          </a:prstGeom>
          <a:ln w="0">
            <a:noFill/>
          </a:ln>
        </p:spPr>
      </p:pic>
      <p:pic>
        <p:nvPicPr>
          <p:cNvPr id="386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1143000" y="1446120"/>
            <a:ext cx="7429680" cy="4389480"/>
          </a:xfrm>
          <a:prstGeom prst="rect">
            <a:avLst/>
          </a:prstGeom>
          <a:ln w="0">
            <a:noFill/>
          </a:ln>
        </p:spPr>
      </p:pic>
      <p:pic>
        <p:nvPicPr>
          <p:cNvPr id="388" name="Title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1285920" y="1382760"/>
            <a:ext cx="6357960" cy="4568760"/>
          </a:xfrm>
          <a:prstGeom prst="rect">
            <a:avLst/>
          </a:prstGeom>
          <a:ln w="0">
            <a:noFill/>
          </a:ln>
        </p:spPr>
      </p:pic>
      <p:pic>
        <p:nvPicPr>
          <p:cNvPr id="390" name="Title 1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1:45:06Z</dcterms:created>
  <dc:creator>default-user</dc:creator>
  <dc:description/>
  <dc:language>en-US</dc:language>
  <cp:lastModifiedBy>lovepj1</cp:lastModifiedBy>
  <dcterms:modified xsi:type="dcterms:W3CDTF">2009-11-17T20:09:01Z</dcterms:modified>
  <cp:revision>15</cp:revision>
  <dc:subject/>
  <dc:title>Welcome to</dc:title>
</cp:coreProperties>
</file>